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9.pct" ContentType="image/x-pict"/>
  <Override PartName="/ppt/media/image8.png" ContentType="image/png"/>
  <Override PartName="/ppt/media/image13.png" ContentType="image/png"/>
  <Override PartName="/ppt/media/image18.pct" ContentType="image/x-pict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2.jpeg" ContentType="image/jpeg"/>
  <Override PartName="/ppt/media/image20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070-55DB-4D11-9E44-31C6C5C4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3E7-1053-4A11-8B69-FE761587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C50-A6D7-46E7-AC5A-27C2E81E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618-ED84-431A-B43D-210C814D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0F89-5098-4DDF-A442-A76E1E10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D14-7683-4451-98CF-5E0B0D7E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DBDF-28C0-408C-B5BA-2FD66BAA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0F5-B0D2-4D82-BA9C-FDE31F33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8B5-7C5B-4F88-8973-850FE1EE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C52-92A7-4DD0-B860-48A4381E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CCF-73AB-434F-BD0C-75C590B2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2007-1652-4E41-BE69-FDDD7FA2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47758-A118-47A4-805F-E522CB0C53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0C4E0-563A-4930-9929-83D98DFE0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ct"/><Relationship Id="rId7" Type="http://schemas.openxmlformats.org/officeDocument/2006/relationships/image" Target="../media/image19.pct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2" name="Picture 15" descr="Lever"/>
          <p:cNvPicPr/>
          <p:nvPr/>
        </p:nvPicPr>
        <p:blipFill>
          <a:blip r:embed="rId1"/>
          <a:srcRect l="0" t="26580" r="0" b="6859"/>
          <a:stretch/>
        </p:blipFill>
        <p:spPr>
          <a:xfrm>
            <a:off x="6894360" y="5651640"/>
            <a:ext cx="1865520" cy="825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drivewheel"/>
          <p:cNvPicPr/>
          <p:nvPr/>
        </p:nvPicPr>
        <p:blipFill>
          <a:blip r:embed="rId2"/>
          <a:stretch/>
        </p:blipFill>
        <p:spPr>
          <a:xfrm>
            <a:off x="7580160" y="3949560"/>
            <a:ext cx="117972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mage001"/>
          <p:cNvPicPr/>
          <p:nvPr/>
        </p:nvPicPr>
        <p:blipFill>
          <a:blip r:embed="rId3"/>
          <a:stretch/>
        </p:blipFill>
        <p:spPr>
          <a:xfrm>
            <a:off x="6680160" y="2232000"/>
            <a:ext cx="2079720" cy="110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u-rail-screw-white"/>
          <p:cNvPicPr/>
          <p:nvPr/>
        </p:nvPicPr>
        <p:blipFill>
          <a:blip r:embed="rId4"/>
          <a:stretch/>
        </p:blipFill>
        <p:spPr>
          <a:xfrm>
            <a:off x="4438800" y="20574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monkey_pulley_weight"/>
          <p:cNvPicPr/>
          <p:nvPr/>
        </p:nvPicPr>
        <p:blipFill>
          <a:blip r:embed="rId5"/>
          <a:stretch/>
        </p:blipFill>
        <p:spPr>
          <a:xfrm>
            <a:off x="4572000" y="3809880"/>
            <a:ext cx="853920" cy="1257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Well%20on%20Rue%20Toulouse%20pulley%20P6200174"/>
          <p:cNvPicPr/>
          <p:nvPr/>
        </p:nvPicPr>
        <p:blipFill>
          <a:blip r:embed="rId6"/>
          <a:stretch/>
        </p:blipFill>
        <p:spPr>
          <a:xfrm>
            <a:off x="4438800" y="5651640"/>
            <a:ext cx="1430280" cy="107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7"/>
          <a:stretch/>
        </p:blipFill>
        <p:spPr>
          <a:xfrm>
            <a:off x="4365720" y="303120"/>
            <a:ext cx="1488960" cy="1322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8"/>
          <a:stretch/>
        </p:blipFill>
        <p:spPr>
          <a:xfrm>
            <a:off x="1409760" y="2057400"/>
            <a:ext cx="857160" cy="1238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9"/>
          <a:stretch/>
        </p:blipFill>
        <p:spPr>
          <a:xfrm>
            <a:off x="2241720" y="3763800"/>
            <a:ext cx="69048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10"/>
          <a:stretch/>
        </p:blipFill>
        <p:spPr>
          <a:xfrm>
            <a:off x="262080" y="5769000"/>
            <a:ext cx="2295360" cy="95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11"/>
          <a:stretch/>
        </p:blipFill>
        <p:spPr>
          <a:xfrm>
            <a:off x="1882800" y="744480"/>
            <a:ext cx="674640" cy="74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"/>
          <p:cNvPicPr/>
          <p:nvPr/>
        </p:nvPicPr>
        <p:blipFill>
          <a:blip r:embed="rId12"/>
          <a:stretch/>
        </p:blipFill>
        <p:spPr>
          <a:xfrm>
            <a:off x="7491240" y="438120"/>
            <a:ext cx="146232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wo simple machines are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wo simple machines are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5" name="Picture 14" descr=""/>
          <p:cNvPicPr/>
          <p:nvPr/>
        </p:nvPicPr>
        <p:blipFill>
          <a:blip r:embed="rId1"/>
          <a:srcRect l="0" t="15061" r="0" b="0"/>
          <a:stretch/>
        </p:blipFill>
        <p:spPr>
          <a:xfrm>
            <a:off x="800280" y="571680"/>
            <a:ext cx="2187360" cy="11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7848720" y="5537160"/>
            <a:ext cx="1041120" cy="111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1625760" y="5473800"/>
            <a:ext cx="966600" cy="132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A:\pulley.jpg"/>
          <p:cNvPicPr/>
          <p:nvPr/>
        </p:nvPicPr>
        <p:blipFill>
          <a:blip r:embed="rId4"/>
          <a:stretch/>
        </p:blipFill>
        <p:spPr>
          <a:xfrm>
            <a:off x="4740120" y="5473800"/>
            <a:ext cx="827280" cy="1231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A:\hammer.gif"/>
          <p:cNvPicPr/>
          <p:nvPr/>
        </p:nvPicPr>
        <p:blipFill>
          <a:blip r:embed="rId5"/>
          <a:srcRect l="41463" t="20937" r="0" b="0"/>
          <a:stretch/>
        </p:blipFill>
        <p:spPr>
          <a:xfrm>
            <a:off x="4978440" y="37530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D:\IMAGES.WMF\TOOLS\HAND\TOLHN052.WMF"/>
          <p:cNvPicPr/>
          <p:nvPr/>
        </p:nvPicPr>
        <p:blipFill>
          <a:blip r:embed="rId6"/>
          <a:stretch/>
        </p:blipFill>
        <p:spPr>
          <a:xfrm>
            <a:off x="5981760" y="4273560"/>
            <a:ext cx="320040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D:\IMAGES.WMF\EDU\SUPPLIES\EDUSU039.WMF"/>
          <p:cNvPicPr/>
          <p:nvPr/>
        </p:nvPicPr>
        <p:blipFill>
          <a:blip r:embed="rId7"/>
          <a:stretch/>
        </p:blipFill>
        <p:spPr>
          <a:xfrm flipH="1" rot="10800000">
            <a:off x="4572000" y="2152440"/>
            <a:ext cx="1006560" cy="109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8"/>
          <a:stretch/>
        </p:blipFill>
        <p:spPr>
          <a:xfrm>
            <a:off x="7429680" y="2006640"/>
            <a:ext cx="1498320" cy="128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9"/>
          <a:stretch/>
        </p:blipFill>
        <p:spPr>
          <a:xfrm>
            <a:off x="1544760" y="2197080"/>
            <a:ext cx="1420560" cy="1117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/>
          <p:cNvPicPr/>
          <p:nvPr/>
        </p:nvPicPr>
        <p:blipFill>
          <a:blip r:embed="rId10"/>
          <a:stretch/>
        </p:blipFill>
        <p:spPr>
          <a:xfrm>
            <a:off x="1549440" y="3886200"/>
            <a:ext cx="1130400" cy="113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"/>
          <p:cNvPicPr/>
          <p:nvPr/>
        </p:nvPicPr>
        <p:blipFill>
          <a:blip r:embed="rId11"/>
          <a:srcRect l="0" t="0" r="0" b="41033"/>
          <a:stretch/>
        </p:blipFill>
        <p:spPr>
          <a:xfrm flipH="1">
            <a:off x="4965480" y="299880"/>
            <a:ext cx="887400" cy="11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"/>
          <p:cNvPicPr/>
          <p:nvPr/>
        </p:nvPicPr>
        <p:blipFill>
          <a:blip r:embed="rId12"/>
          <a:stretch/>
        </p:blipFill>
        <p:spPr>
          <a:xfrm>
            <a:off x="7467480" y="322200"/>
            <a:ext cx="14605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simple machines change the amount of work being do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simple machines change the distance the object is mov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simple machines change the direction of the forc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simple machines change the input force to move an objec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 we call a machine made of more than one simple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imple or a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 scientists call the amount of force applied to an object to move it a distanc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imple or a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imple or a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imple or a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wo simple machines make up this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imple or a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512120" y="2298600"/>
            <a:ext cx="1174680" cy="889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4165560" y="3735360"/>
            <a:ext cx="1765440" cy="1249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7042320" y="3790800"/>
            <a:ext cx="1701720" cy="119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4"/>
          <a:stretch/>
        </p:blipFill>
        <p:spPr>
          <a:xfrm>
            <a:off x="3886200" y="5627520"/>
            <a:ext cx="1371600" cy="8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5"/>
          <a:stretch/>
        </p:blipFill>
        <p:spPr>
          <a:xfrm>
            <a:off x="7702560" y="5457960"/>
            <a:ext cx="958680" cy="132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6"/>
          <a:stretch/>
        </p:blipFill>
        <p:spPr>
          <a:xfrm>
            <a:off x="1122480" y="5448240"/>
            <a:ext cx="179856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act it, choose a performer from your team who can get you to guess the answer on the back of this card by acting out silent clues, just like charade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act it, choose a performer from your team who can get you to guess the answer on the back of this card by acting out silent clues, just like charade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act it, choose a performer from your team who can get you to guess the answer on the back of this card by acting out silent clues, just like charade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act it, choose a performer from your team who can get you to guess the answer on the back of this card by acting out silent clues, just like charade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act it, choose a performer from your team who can get you to guess the answer on the back of this card by acting out silent clues, just like charade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act it, choose a performer from your team who can get you to guess the answer on the back of this card by acting out silent clues, just like charade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lp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sculpt it, choose an artist from your team who can get you to guess the answer on the back of this card by creating a model from the play dough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lp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sculpt it, choose an artist from your team who can get you to guess the answer on the back of this card by creating a model from the play dough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lp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sculpt it, choose an artist from your team who can get you to guess the answer on the back of this card by creating a model from the play dough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lp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sculpt it, choose an artist from your team who can get you to guess the answer on the back of this card by creating a model from the play dough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lp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sculpt it, choose an artist from your team who can get you to guess the answer on the back of this card by creating a model from the play dough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lp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sculpt it, choose an artist from your team who can get you to guess the answer on the back of this card by creating a model from the play dough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w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raw it, choose an artist from your team who can get you to guess the answer on the back of this card by drawing a picture, just like Pictionary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w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raw it, choose an artist from your team who can get you to guess the answer on the back of this card by drawing a picture, just like Pictionary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w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raw it, choose an artist from your team who can get you to guess the answer on the back of this card by drawing a picture, just like Pictionary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w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raw it, choose an artist from your team who can get you to guess the answer on the back of this card by drawing a picture, just like Pictionary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w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raw it, choose an artist from your team who can get you to guess the answer on the back of this card by drawing a picture, just like Pictionary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w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raw it, choose an artist from your team who can get you to guess the answer on the back of this card by drawing a picture, just like Pictionary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’t Say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on’t Say It it, choose a performer from your team who can get you to guess the answer on the back of this card by giving verbal hints – but without saying the word on the back of the ca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’t Say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on’t Say It it, choose a performer from your team who can get you to guess the answer on the back of this card by giving verbal hints – but without saying the word on the back of the ca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’t Say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on’t Say It it, choose a performer from your team who can get you to guess the answer on the back of this card by giving verbal hints – but without saying the word on the back of the ca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’t Say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on’t Say It it, choose a performer from your team who can get you to guess the answer on the back of this card by giving verbal hints – but without saying the word on the back of the ca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’t Say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on’t Say It it, choose a performer from your team who can get you to guess the answer on the back of this card by giving verbal hints – but without saying the word on the back of the ca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’t Say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on’t Say It it, choose a performer from your team who can get you to guess the answer on the back of this card by giving verbal hints – but without saying the word on the back of the ca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2:05:53Z</dcterms:created>
  <dc:creator>Caroline Roth</dc:creator>
  <dc:description/>
  <dc:language>en-US</dc:language>
  <cp:lastModifiedBy>Caroline Roth</cp:lastModifiedBy>
  <cp:lastPrinted>2011-02-10T03:42:45Z</cp:lastPrinted>
  <dcterms:modified xsi:type="dcterms:W3CDTF">2011-02-22T12:44:05Z</dcterms:modified>
  <cp:revision>7</cp:revision>
  <dc:subject/>
  <dc:title>Slide 1</dc:title>
</cp:coreProperties>
</file>